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9469-1706-4F4C-B65C-86D2A3DCE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2C58-C0C7-422C-B43A-195D5DA5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8590F8-F948-4078-A755-3F02FC0D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7738E9-B3F6-4EB6-ACB9-C8122929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5F7C77-3D7D-48C2-BB2A-F5B7EB18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F9A2DD-21B0-479C-B613-261FE5B2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CCEF0B-BD7E-489E-BD6C-2D5C2618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FA0651-6A32-4834-80CA-3FA02D28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0C790B-ACA6-4D6F-A72A-04A1F977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6371E2-18D8-4DD6-A3B9-BBDD38B3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15DFC4-0893-48B0-8D60-36E766CE2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C1447F-7995-4709-A9AF-45A82971C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5FA2-C8A2-4FAE-A236-2E68BD921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7D7EBC-D891-4CA9-8105-731FEB2A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4F563B-0D5E-4096-BABB-D76B45DB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065787-D7A6-4221-895C-63720235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B56732-0096-45B8-BB06-6B54D931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15786A-7740-41F5-A425-DA180A4E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1FF590-2AB5-4162-85CA-F64FB827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82435D-8D45-406A-99D0-59123F3A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37D34D-20B0-4F6E-AA2C-4937CB40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EF013E-EEE6-408E-9442-9AEB2F51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51D356-7B51-416F-8E6A-9DFDDE3AA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AFD2-238D-4CA5-B505-3BCAFAE0C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91CB73-0089-4BC9-9A54-C812526B2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C63E0-D07E-4EB3-AD15-A8DB2C767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8766A-8C73-4F36-8AEC-0D8E0EBB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10AF3-6DD9-4C20-8935-1452C81B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17F4D-FF21-456A-BC85-A4CBE252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11286-46B0-47D8-B63F-7716DBA6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F1BB6-07E6-4B89-BFC5-116E3E67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A5C39-9E4D-495E-8EC8-0A8E92F4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64AF2-E3E5-4A50-B131-1C36D1B2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DD75E-D503-4E98-B277-EC39552B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2ED2-35CB-4C6B-8A2E-65BB9EBEA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A7BCF-78FD-4887-8F88-DA6C975A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C2486-F214-4454-B015-26E085CC4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AEFC5-88B5-4DB5-A5FD-AB8C8F914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651518-B4DB-44C1-A809-4B63E0E3F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96E140-579D-4793-AFF7-7316229D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515B64-9A88-40DD-B4C3-129109EB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5AA6C6-41F4-42A9-AC19-D178EBE3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2580FB-E3E2-44BB-B113-A1418DB5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B8DBF0-FDE0-42FF-9176-257E79ED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19AFE2-CE85-4BBD-8ADF-DA885905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9B4D-36F5-495A-8C68-5A9BE61E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7076DB-0E51-4843-AD0F-AAA4D483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0A4AA0-8D67-4985-89CA-77A0B92D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38F059-EA72-4432-80AF-BE2CC50B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C912E7-5358-4B8A-AE5E-7A13A85B5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4C1193-9A8A-4B8E-A02C-6CFE957A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3E78-4E99-4DCC-9629-04D04F3F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159C-9038-47A3-91A3-CC7E3629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6A67-D1CA-46A3-9A3A-D83B1275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72B6-499A-42D4-B3FD-15DE0D53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D808-13DC-42C6-92E0-B7E057E9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F432-7CB0-4885-9683-6A2B628E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46F8-15A1-41A0-A743-01A4B095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C477-7501-4584-AE4D-D23719E9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8E32-ED56-4161-88EB-D08BC263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4542-CD8A-42E1-8246-AD539D3D3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6406-0AF8-45AD-8886-6C1DFA4AC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E4D04-65ED-4AFC-9AAD-D9E7E9F78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7398C-91AE-4B33-89C3-7E5DFC26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49DF9-4116-4C00-9C93-6B52F4E0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59EE4-7A2B-4E3C-BF03-1D9256F3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D2027-8060-4E6B-B05F-E7A7929C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4AEC-E2C6-4278-A6B1-218BDB3B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8B17F-4C89-4AB3-8DCC-DE2FB650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34F18-56A6-423C-9558-C637BA1B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F36D6-FF4B-4FBB-97EA-BF73AAF3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B1E82-3A4B-494D-9185-1421BDCC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F9175-F8D0-40D3-9794-DD4C1739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7CCDC-4819-49F9-9296-3BAF14A32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DD8F3-3815-432F-922C-5DDF1F890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76A02-8923-42C6-8441-43909ACD6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F0D99-4209-40EF-9C58-7638B404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CE26D-016C-4C01-840C-59F0372D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51A8-029C-4946-9B54-622A2E53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B9C01-2454-469C-AAFA-A4477DB3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D40D0-354B-432A-A0CB-8AED955D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94FE1-DAC4-413D-853D-A2130C1A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8E3F0-FD39-475E-B5FA-A40B24BA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C4ED7-068D-47FC-B33C-CD694E17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20DF7-8C2E-4407-9337-2E63B9AE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7A672-B787-428C-91C4-625ABECA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0A4A0-0EB2-4B3C-B160-9A3F2348C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A56F0-4765-4024-93FF-5F5BC7551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73621-DDF4-4163-A95A-51C39F92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545D-3221-4039-AB8B-8477C34E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0893D-62B5-4792-A3E9-059AF86B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7DD04-A4F6-4134-A70D-54C8B492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9531C-E346-4A56-AD59-4E589F6B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41C94-D065-4197-A1FD-66D4E1DD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7B73F-B577-4844-BBDD-4DAC79B0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97BEB-5EA1-4FBD-9BAC-74199E14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36720-8C4A-457E-9C79-3F6E8C82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2977C-AFCD-451F-BE52-6FB95A87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61641-887A-4013-A8F4-53277527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2D48E-0C38-48C9-AC50-631FD39E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AD57-BFE7-415C-B49E-C93B905A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9818B-3D98-4813-A95E-FD8177247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85F35-653F-41FF-B9FB-6202D374C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61C8D-45AD-4866-8176-FAB11907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3B315-8B45-4108-919C-8EADF980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14A19-8CF5-43CF-92C8-02D0C1CE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CC88A-EB37-46B8-842A-FEA48D38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69274-FD57-4F53-A3AC-873C58E4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305FC-2DED-4423-BB48-AF911EFC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824D5-0A74-43A6-95E6-099F740A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19169-63F6-4BB9-BEC6-228835E2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5C82-F4FE-4EA2-ADF4-6913BBFD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9E272-152F-4DF9-A8A3-61335E96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B53B2-6C9D-4F82-A3F1-63B171285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4F63F-EED0-4E4C-A45B-1CD7DFC42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5FB23-999F-48AE-9B5B-3F86C65D8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91D8D-3D3C-46B8-90DA-2118BD9C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81F08-3E77-4CA9-AA3F-242A1DCF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9126F-3BB1-4059-902E-3A3A15AE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B60EC-EF14-4177-8041-711B8D9D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B8FA5-F7AA-4958-928A-3C01335D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82B44-DAB5-4BA5-9465-BA1EAFC6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02EF-A7AC-40A7-A106-DA493A41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E63F2-E2EC-46A4-8CB1-0A52D530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03F52-A431-42CF-8DAE-96983184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4EC7C-7299-4E33-9339-BE024C31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ECBAB-2BBF-48C8-AC14-97F556AE2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4D235-7ACA-47F3-83F3-045C0F80E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B7484-54D3-4D7F-B76C-1D411C1B1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B4760-0D01-46D7-8BBF-3B13DF7F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04191-81C7-47C8-9777-BA4E2F41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67A2E-7BC4-444A-98D1-73E614E1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18414-DF91-4DBC-A81D-14FB3A00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7009-29DE-45DA-AA69-830723F7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BBEE8-5594-4B37-AB6E-54DF3C0B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7DD41-377B-4CF2-827E-2BB01C79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4FA3B-62A8-44E1-9E25-1BC1CFF0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65D3A-8B82-46E6-B7EA-58064264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1A186-18AC-4047-B1C4-5560BF47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D9DE4-9E8A-47A0-8DDF-C30F7247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61959-AA53-4B27-BE15-4EE31E21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E0CB0D-E8D1-4470-8BA4-590F9369F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898BD0-BC23-4CC1-A019-1AF4B66E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4FA6EB-06B8-457D-A297-79AB7BCA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9D3B30-EBFD-4034-8A6E-0836C47F21BA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6FD9B8-DB30-46F1-807C-512640CD73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DE4289-F96C-42E9-BC28-7865D917E3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5FDBEB-A336-40D7-A6F9-3CA0C93C9CD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A138F7-589A-4721-B870-04F32366CD4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2A4719-2992-41BF-830A-0782EFDDF2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1E176B-5124-4C52-8A7F-8D7D32B3A7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4BDBB9-DD2E-43DA-8A93-336748D0D22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F3CEC0-0E9F-42B5-B9A6-D8A2548DF55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714498-1B7B-4AF2-A9D6-BD7DA90B91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2C9DF8-AFAE-494A-AC0B-E695D65B481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EC15E7-A537-494F-8403-BD7DDBEC5C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424D16-7F97-444D-A662-5F3F28746C6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24C197-E663-4116-84FD-0E75B8195D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000214-DB6D-4C98-999C-C55612D1A27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5A5165-A5E4-4E26-9614-9047BEEDDD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12C37F-B143-4C2C-9442-1FF291C7DDF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C7C576-7A63-41C6-954B-D4E1E9701A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281E2D-D29B-4B96-BDAF-1D2F07A7547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F05725-C94B-4C33-BE94-D454D8C287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7EF84F-B41F-4295-8ED6-406969E2449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87B024-5C43-4217-8EDC-BE55762C3E6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60F233-9650-4C2D-B204-51E8178A1E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8D3907-1A2A-43F5-99D2-5CE8BD3FD4D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1865-1900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Chapter 25: America Moves to the City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venging Little Big Horn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ez Perces Indians were tricked into thinking they were being sent to their ancestral land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ctually sent to a reservation in Kansas, 40% of them died of disease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pache tribes most difficult to subdu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Led by Geronimo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ventually surrendered after women exiled to Florida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Became successful farmers in OK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aming” of Indians was engineered by railroad, disease &amp; alcohol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0" name="Picture 3" descr=""/>
          <p:cNvPicPr/>
          <p:nvPr/>
        </p:nvPicPr>
        <p:blipFill>
          <a:blip r:embed="rId1"/>
          <a:stretch/>
        </p:blipFill>
        <p:spPr>
          <a:xfrm>
            <a:off x="7845480" y="3435480"/>
            <a:ext cx="10522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erds of Bison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ison were the staff of life for Native American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rovided clothing &amp; harnesses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uffalo Bill” Cody- killed over 4,000 bison in 18 month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lain for their hides, tongues or for sheer amusemen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3" name="Picture 3" descr=""/>
          <p:cNvPicPr/>
          <p:nvPr/>
        </p:nvPicPr>
        <p:blipFill>
          <a:blip r:embed="rId1"/>
          <a:stretch/>
        </p:blipFill>
        <p:spPr>
          <a:xfrm>
            <a:off x="806400" y="4213080"/>
            <a:ext cx="3270240" cy="218772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4" descr=""/>
          <p:cNvPicPr/>
          <p:nvPr/>
        </p:nvPicPr>
        <p:blipFill>
          <a:blip r:embed="rId2"/>
          <a:stretch/>
        </p:blipFill>
        <p:spPr>
          <a:xfrm>
            <a:off x="5526000" y="3932280"/>
            <a:ext cx="241452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nd of the Trail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ation began to realize horrors it had committed upon Indian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umanitarians wanted to treat Indians kindly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Dawes Act of 1887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 dissolved tribes as legal entities, wiped out tribal ownership of land &amp; set up Indian family heads w/ 160 acres of land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f Indians behaved like “good white settlers,” they would get full title to land &amp; citizenship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gnored traditional Indian culture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Goal was to stimulate assimilation of Indians into American society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ining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old &amp; silver discovered in the Rockies in 1858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“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59ers” or “Pikes Peakers”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Kings of the Comstock” in Nevada mined silver to an amount worth more than $340 millio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omen gained right to vote in Western states long before women of the ea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rontier mining brought wealth &amp; population to we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* </a:t>
            </a:r>
            <a:r>
              <a:rPr b="1" lang="en-US" sz="2300" spc="-1" strike="noStrike">
                <a:solidFill>
                  <a:srgbClr val="000000"/>
                </a:solidFill>
                <a:latin typeface="Georgia"/>
              </a:rPr>
              <a:t>Author 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 Who created the source? What is their point of view?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* </a:t>
            </a:r>
            <a:r>
              <a:rPr b="1" lang="en-US" sz="2300" spc="-1" strike="noStrike">
                <a:solidFill>
                  <a:srgbClr val="000000"/>
                </a:solidFill>
                <a:latin typeface="Georgia"/>
              </a:rPr>
              <a:t>Place and Time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 -Where and when was the source produced?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* </a:t>
            </a:r>
            <a:r>
              <a:rPr b="1" lang="en-US" sz="2300" spc="-1" strike="noStrike">
                <a:solidFill>
                  <a:srgbClr val="000000"/>
                </a:solidFill>
                <a:latin typeface="Georgia"/>
              </a:rPr>
              <a:t>Prior Knowledge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 - What do you already know that would further your understanding of this sources?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* </a:t>
            </a:r>
            <a:r>
              <a:rPr b="1" lang="en-US" sz="2300" spc="-1" strike="noStrike">
                <a:solidFill>
                  <a:srgbClr val="000000"/>
                </a:solidFill>
                <a:latin typeface="Georgia"/>
              </a:rPr>
              <a:t>Audience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 - For whom was the source created? Does this affect the reliability of the source?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* </a:t>
            </a:r>
            <a:r>
              <a:rPr b="1" lang="en-US" sz="2300" spc="-1" strike="noStrike">
                <a:solidFill>
                  <a:srgbClr val="000000"/>
                </a:solidFill>
                <a:latin typeface="Georgia"/>
              </a:rPr>
              <a:t>Reason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 - Why was this source produced at the time is was produced?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* </a:t>
            </a:r>
            <a:r>
              <a:rPr b="1" lang="en-US" sz="2300" spc="-1" strike="noStrike">
                <a:solidFill>
                  <a:srgbClr val="000000"/>
                </a:solidFill>
                <a:latin typeface="Georgia"/>
              </a:rPr>
              <a:t>The Main Idea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 - What is the source trying to convey?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* </a:t>
            </a:r>
            <a:r>
              <a:rPr b="1" lang="en-US" sz="2300" spc="-1" strike="noStrike">
                <a:solidFill>
                  <a:srgbClr val="000000"/>
                </a:solidFill>
                <a:latin typeface="Georgia"/>
              </a:rPr>
              <a:t>Significance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 - Why is this source important?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e Urban Frontier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y 1890 New York, Chicago &amp; Philadelphia had more than 1 million inhabitan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ities grew up &amp; ou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kyscrapers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ttractions to a city: electricity, plumbing &amp; telephones (industrial jobs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lums grew more crowded and filth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2212920" y="4737240"/>
            <a:ext cx="1401840" cy="18414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4" descr=""/>
          <p:cNvPicPr/>
          <p:nvPr/>
        </p:nvPicPr>
        <p:blipFill>
          <a:blip r:embed="rId2"/>
          <a:stretch/>
        </p:blipFill>
        <p:spPr>
          <a:xfrm>
            <a:off x="5991120" y="4737240"/>
            <a:ext cx="2451240" cy="18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4" name="Picture 3" descr=""/>
          <p:cNvPicPr/>
          <p:nvPr/>
        </p:nvPicPr>
        <p:blipFill>
          <a:blip r:embed="rId1"/>
          <a:stretch/>
        </p:blipFill>
        <p:spPr>
          <a:xfrm>
            <a:off x="706320" y="417600"/>
            <a:ext cx="7893000" cy="59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New Immigr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fter 1880s, immigrants came from southern &amp; eastern Europ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talians, Croats, Slovaks, Greeks, Poles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ome feared they could not assimilate to life in the new land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3" descr=""/>
          <p:cNvPicPr/>
          <p:nvPr/>
        </p:nvPicPr>
        <p:blipFill>
          <a:blip r:embed="rId1"/>
          <a:stretch/>
        </p:blipFill>
        <p:spPr>
          <a:xfrm>
            <a:off x="3267000" y="3530520"/>
            <a:ext cx="441648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Narrowing the Welcome Mat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ntiforeignism, or nativism, returned w/ new immigrants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Worried that Americans would soon be outnumbered &amp; outvoted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merican Protective Association (APA): nativist goals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31000" indent="-2646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1 million member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31000" indent="-2646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Urged voting against Roman Catholics for office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64600" indent="-2646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1882- law passed requiring paupers, criminals &amp; convicts to return to their countri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1885- Congress prohibits importation of foreign workers under contract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ooker T. Washington vs. W.E.B. Dubois 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ashington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elf- help approach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upported segregation if the economic &amp; educational resources of the black community were developed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conomic independence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voided issue of social equality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.E.B. Dubois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riticized Washington for condemning blacks to manual labor &amp; inferiority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Demanded complete equality for blacks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elped found the NAACP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1865-1896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Chapter 26: The Great West &amp; Agricultural Revolution 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e Clash of Cultures on the Plains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ative Americans numbered about 360,000 in 1860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ites spread diseases to Native America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reaties signed w/ chiefs of tribes at Ft. Laramie &amp; Ft. Atkinson in 1853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Beginning of reservation system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stablished boundaries for the territory of each tribe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reat Sioux Reservation” in Dakota Territory &amp; “Indian Territory” in Oklahoma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Receding Native Population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Sand Creek, Colorado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 Militia massacred 400 Indians who apparently posed no threat (promised immunity)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oux war party ambushed 81 soldiers &amp; civilians at Bighorn Mountai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Killed all 81 people &amp; mutilated corps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One of the few Indian triumphs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old discovered on Sioux reservatio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uster’s Seventh Cavalry sent to suppress Indians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avalry completely wiped out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“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Battle of Little Big Horn”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17:11:30Z</dcterms:created>
  <dc:creator>Emily Johnson</dc:creator>
  <dc:description/>
  <dc:language>en-US</dc:language>
  <cp:lastModifiedBy>emily.johnson</cp:lastModifiedBy>
  <dcterms:modified xsi:type="dcterms:W3CDTF">2013-01-22T16:01:37Z</dcterms:modified>
  <cp:revision>3</cp:revision>
  <dc:subject/>
  <dc:title>Chapter 25: America Moves to the City</dc:title>
</cp:coreProperties>
</file>